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D541-7C1E-4FCE-AF0B-8588BA1F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66400"/>
            <a:ext cx="77724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EDB-5F07-437F-ACDC-9BD0B30F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6640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6640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5F0-712D-4CC5-9451-F897F7F6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2884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2884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6640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6640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6640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7AA-834D-4DEA-91EC-33966605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FA7-5D61-4005-9E4A-77420F78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4CA-4D25-48C6-8492-7B49E115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7DB-5B56-4E5F-925D-FECA29D8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B1E-1D2C-418D-88EC-D8FD3CCB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77724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7AB-B481-42FC-8CD4-2B1B91F9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6640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526-2F43-47A5-A1EE-45988890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6640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F78-8FD0-403B-AFB8-4F4098BE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66400"/>
            <a:ext cx="77724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DBD-9089-422D-B4D6-8F1A17A7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071720"/>
            <a:ext cx="9169560" cy="137520"/>
            <a:chOff x="0" y="1071720"/>
            <a:chExt cx="9169560" cy="137520"/>
          </a:xfrm>
        </p:grpSpPr>
        <p:sp>
          <p:nvSpPr>
            <p:cNvPr id="1" name="Freeform 26"/>
            <p:cNvSpPr/>
            <p:nvPr/>
          </p:nvSpPr>
          <p:spPr>
            <a:xfrm>
              <a:off x="6415200" y="1095120"/>
              <a:ext cx="27543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27"/>
            <p:cNvSpPr/>
            <p:nvPr/>
          </p:nvSpPr>
          <p:spPr>
            <a:xfrm>
              <a:off x="2741760" y="1080720"/>
              <a:ext cx="4214520" cy="9504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28"/>
            <p:cNvSpPr/>
            <p:nvPr/>
          </p:nvSpPr>
          <p:spPr>
            <a:xfrm>
              <a:off x="0" y="1071720"/>
              <a:ext cx="3240000" cy="979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206A-7469-4CD3-B695-4FEF70AB460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Rectangle 2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209240"/>
            <a:ext cx="864216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3008"/>
                </a:solidFill>
                <a:latin typeface="黑体"/>
                <a:ea typeface="黑体"/>
              </a:rPr>
              <a:t>2015</a:t>
            </a:r>
            <a:r>
              <a:rPr b="1" lang="zh-CN" sz="3200" spc="-1" strike="noStrike">
                <a:solidFill>
                  <a:srgbClr val="fa3008"/>
                </a:solidFill>
                <a:latin typeface="黑体"/>
                <a:ea typeface="黑体"/>
              </a:rPr>
              <a:t>年推免生复试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3008"/>
                </a:solidFill>
                <a:latin typeface="Times New Roman"/>
              </a:rPr>
              <a:t>自助支付复试考务费流程演示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八步：点击“查询”，进入查询条件界面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71294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九步：输入本人</a:t>
            </a:r>
            <a:r>
              <a:rPr b="1" lang="zh-CN" sz="4000" spc="-1" strike="noStrike">
                <a:solidFill>
                  <a:srgbClr val="fa3008"/>
                </a:solidFill>
                <a:latin typeface="Tahoma"/>
                <a:ea typeface="黑体"/>
              </a:rPr>
              <a:t>身份证号码</a:t>
            </a: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，单击确定，进入信息确认界面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7345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4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十步：核对考生有关信息，并在报名号前方框内打勾，然后单击确认，进入确认缴费金额界面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十一步：确认缴费金额，然后点击“确认无误，付款”按钮，进入快钱支付界面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2162160"/>
            <a:ext cx="8820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十二步：先核对信息，再选择</a:t>
            </a:r>
            <a:r>
              <a:rPr b="0" lang="en-US" sz="3200" spc="-1" strike="noStrike">
                <a:solidFill>
                  <a:srgbClr val="3702f8"/>
                </a:solidFill>
                <a:latin typeface="Tahoma"/>
              </a:rPr>
              <a:t>”</a:t>
            </a: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银行卡网银支付</a:t>
            </a:r>
            <a:r>
              <a:rPr b="0" lang="en-US" sz="3200" spc="-1" strike="noStrike">
                <a:solidFill>
                  <a:srgbClr val="3702f8"/>
                </a:solidFill>
                <a:latin typeface="Tahoma"/>
              </a:rPr>
              <a:t>”</a:t>
            </a: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相关银行，并填写“支付邮箱”，点击“到银行页面付款”，进入银行支付页面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1152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十三步：进入相应银行支付界面，按照提示进行操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十四步：支付完成</a:t>
            </a:r>
            <a:r>
              <a:rPr b="0" lang="zh-CN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06280" y="1947960"/>
            <a:ext cx="873144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1280" y="1268280"/>
            <a:ext cx="89647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Rectangle 2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1411200"/>
            <a:ext cx="864216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a3008"/>
                </a:solidFill>
                <a:latin typeface="黑体"/>
                <a:ea typeface="黑体"/>
              </a:rPr>
              <a:t>报名费支付完成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a3008"/>
                </a:solidFill>
                <a:latin typeface="黑体"/>
                <a:ea typeface="黑体"/>
              </a:rPr>
              <a:t>请各位考生按通知要求在规定时间内到我校黄家湖校区体检、报到、复试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a3008"/>
                </a:solidFill>
                <a:latin typeface="Tahoma"/>
              </a:rPr>
              <a:t>注：此</a:t>
            </a:r>
            <a:r>
              <a:rPr b="0" lang="en-US" sz="3200" spc="-1" strike="noStrike">
                <a:solidFill>
                  <a:srgbClr val="fa3008"/>
                </a:solidFill>
                <a:latin typeface="Tahoma"/>
              </a:rPr>
              <a:t>PPT</a:t>
            </a:r>
            <a:r>
              <a:rPr b="0" lang="zh-CN" sz="3200" spc="-1" strike="noStrike">
                <a:solidFill>
                  <a:srgbClr val="fa3008"/>
                </a:solidFill>
                <a:latin typeface="Tahoma"/>
              </a:rPr>
              <a:t>中涉及的年份、支付金额仅作演示需要使用，请以</a:t>
            </a:r>
            <a:r>
              <a:rPr b="0" lang="en-US" sz="3200" spc="-1" strike="noStrike">
                <a:solidFill>
                  <a:srgbClr val="fa3008"/>
                </a:solidFill>
                <a:latin typeface="Tahoma"/>
              </a:rPr>
              <a:t>2015</a:t>
            </a:r>
            <a:r>
              <a:rPr b="0" lang="zh-CN" sz="3200" spc="-1" strike="noStrike">
                <a:solidFill>
                  <a:srgbClr val="fa3008"/>
                </a:solidFill>
                <a:latin typeface="Tahoma"/>
              </a:rPr>
              <a:t>年最新支付金额为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660066"/>
                </a:solidFill>
                <a:latin typeface="Tahoma"/>
              </a:rPr>
              <a:t>注意！</a:t>
            </a:r>
            <a:endParaRPr b="0" lang="en-US" sz="1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3213000"/>
            <a:ext cx="8569080" cy="31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请在输入”报名号“处输入</a:t>
            </a:r>
            <a:r>
              <a:rPr b="0" lang="zh-CN" sz="8000" spc="-1" strike="noStrike">
                <a:solidFill>
                  <a:srgbClr val="fa3008"/>
                </a:solidFill>
                <a:latin typeface="Tahoma"/>
              </a:rPr>
              <a:t>“身份证号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一步：打开浏览器，输入湖北中医药大学财务处网址</a:t>
            </a:r>
            <a:r>
              <a:rPr b="0" lang="en-US" sz="3200" spc="-1" strike="noStrike">
                <a:solidFill>
                  <a:srgbClr val="3702f8"/>
                </a:solidFill>
                <a:latin typeface="Tahoma"/>
              </a:rPr>
              <a:t>(http://cwc.hbtcm.edu.cn/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1" name="Rectangle 30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77724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二步：点击自助支付管理系统，进入欢迎访问</a:t>
            </a:r>
            <a:r>
              <a:rPr b="0" lang="en-US" sz="3200" spc="-1" strike="noStrike">
                <a:solidFill>
                  <a:srgbClr val="3702f8"/>
                </a:solidFill>
                <a:latin typeface="Tahoma"/>
              </a:rPr>
              <a:t>《</a:t>
            </a: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湖北中医药大学自助支付平台</a:t>
            </a:r>
            <a:r>
              <a:rPr b="0" lang="en-US" sz="3200" spc="-1" strike="noStrike">
                <a:solidFill>
                  <a:srgbClr val="3702f8"/>
                </a:solidFill>
                <a:latin typeface="Tahoma"/>
              </a:rPr>
              <a:t>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26920" y="1714680"/>
            <a:ext cx="72741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三步：点击“通过电信线路访问”或“通过联通线路访问”，进入报名考务界面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7201080" cy="4043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712944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四步：点击“报名考务”，进入查询考务编号界面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7056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五步：点击“查询考务”，进入选择报名考务编号页面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6985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六步：单击“报名考务编号”前的单选按钮，再单击确定，进入填写验证码界面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00000" y="2089080"/>
            <a:ext cx="72723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9185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七步：输入验证码后，单击确认，进入查询界面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26920" y="1762200"/>
            <a:ext cx="75614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0:50:31Z</dcterms:created>
  <dc:creator>sj</dc:creator>
  <dc:description/>
  <cp:keywords/>
  <dc:language>en-US</dc:language>
  <cp:lastModifiedBy>User</cp:lastModifiedBy>
  <dcterms:modified xsi:type="dcterms:W3CDTF">2014-10-08T06:20:42Z</dcterms:modified>
  <cp:revision>512</cp:revision>
  <dc:subject/>
  <dc:title>    针刺对大鼠不同生理状态下神经    元放电及血压双向调节效应 的机制研究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