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1EC-7051-4163-9A1B-219707D6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6640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ED7-56E8-4899-B1D3-0807F8A1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87A-7976-4883-BD9F-541772C6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2884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2884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6640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6640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6640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96D-06FB-4D53-99DF-356E9530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C48-413E-4698-9AA4-3AC50D90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C8C-4699-4661-8DD3-617B1453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240-4285-445A-81B8-89DCAF8B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1B1-79C9-4812-82AE-F9A973CE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77724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910-B9B2-4EAA-80B2-86561718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C94-46CC-419C-ABB5-4083FEE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1D5-780C-4417-B791-03E104E7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6640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E16-4870-4E8A-AB44-D788DB6C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071720"/>
            <a:ext cx="9169560" cy="137520"/>
            <a:chOff x="0" y="1071720"/>
            <a:chExt cx="9169560" cy="137520"/>
          </a:xfrm>
        </p:grpSpPr>
        <p:sp>
          <p:nvSpPr>
            <p:cNvPr id="1" name="Freeform 26"/>
            <p:cNvSpPr/>
            <p:nvPr/>
          </p:nvSpPr>
          <p:spPr>
            <a:xfrm>
              <a:off x="6415200" y="1095120"/>
              <a:ext cx="27543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3008"/>
                </a:solidFill>
                <a:latin typeface="Times New Roman"/>
              </a:endParaRPr>
            </a:p>
          </p:txBody>
        </p:sp>
        <p:sp>
          <p:nvSpPr>
            <p:cNvPr id="2" name="Freeform 27"/>
            <p:cNvSpPr/>
            <p:nvPr/>
          </p:nvSpPr>
          <p:spPr>
            <a:xfrm>
              <a:off x="2741760" y="1080720"/>
              <a:ext cx="4214520" cy="9504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3008"/>
                </a:solidFill>
                <a:latin typeface="Times New Roman"/>
              </a:endParaRPr>
            </a:p>
          </p:txBody>
        </p:sp>
        <p:sp>
          <p:nvSpPr>
            <p:cNvPr id="3" name="Freeform 28"/>
            <p:cNvSpPr/>
            <p:nvPr/>
          </p:nvSpPr>
          <p:spPr>
            <a:xfrm>
              <a:off x="0" y="1071720"/>
              <a:ext cx="3240000" cy="979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3008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FBCC-D8DE-49E0-A86A-8661B6A9900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a30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250920" y="950040"/>
            <a:ext cx="86421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3008"/>
                </a:solidFill>
                <a:latin typeface="黑体"/>
                <a:ea typeface="黑体"/>
              </a:rPr>
              <a:t>2017</a:t>
            </a:r>
            <a:r>
              <a:rPr b="1" lang="zh-CN" sz="5400" spc="-1" strike="noStrike">
                <a:solidFill>
                  <a:srgbClr val="fa3008"/>
                </a:solidFill>
                <a:latin typeface="黑体"/>
                <a:ea typeface="黑体"/>
              </a:rPr>
              <a:t>年推免生复试</a:t>
            </a:r>
            <a:endParaRPr b="0" lang="en-US" sz="5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3008"/>
                </a:solidFill>
                <a:latin typeface="Times New Roman"/>
              </a:rPr>
              <a:t>自助支付复试费流程</a:t>
            </a:r>
            <a:endParaRPr b="0" lang="en-US" sz="60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八步：点击操作栏“点击去支付”超级链接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4" name="图片 3" descr="6点击去支付6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九步：点击中国银联“储蓄卡”，勾选“本人知晓并愿意支付相应的服务费用”后，单击“去网上银行付款”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6" name="图片 4" descr="7勾选本人知晓并愿意支付相应的服务费用，点击 “去网上银行付款”7.jpg"/>
          <p:cNvPicPr/>
          <p:nvPr/>
        </p:nvPicPr>
        <p:blipFill>
          <a:blip r:embed="rId1"/>
          <a:stretch/>
        </p:blipFill>
        <p:spPr>
          <a:xfrm>
            <a:off x="611280" y="1700280"/>
            <a:ext cx="792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十步：点击支付银行单选按钮后，单击“到网上银行支付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8" name="图片 3" descr="8选择本人银行卡发卡行，点击“到网上银行支付”8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</a:rPr>
              <a:t>第十一步：根据系统提示到所选的银行网页进行支付操作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十二步：银行支付成功后，跳转到本支付系统，系统也提示支付成功。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1" name="图片 3" descr="9支付成功页面9.jpg"/>
          <p:cNvPicPr/>
          <p:nvPr/>
        </p:nvPicPr>
        <p:blipFill>
          <a:blip r:embed="rId1"/>
          <a:stretch/>
        </p:blipFill>
        <p:spPr>
          <a:xfrm>
            <a:off x="539640" y="1268280"/>
            <a:ext cx="8064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50920" y="1092960"/>
            <a:ext cx="8642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3008"/>
                </a:solidFill>
                <a:latin typeface="Times New Roman"/>
              </a:rPr>
              <a:t>请各位推免生按照网上通知要求在规定时间内完成体检、报到、资格审查及专业复试</a:t>
            </a:r>
            <a:endParaRPr b="0" lang="en-US" sz="32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3008"/>
                </a:solidFill>
                <a:latin typeface="Times New Roman"/>
              </a:rPr>
              <a:t>祝各位考生复试取得好成绩！</a:t>
            </a:r>
            <a:endParaRPr b="0" lang="en-US" sz="48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137440" cy="468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注意：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系统登录时请在“学号”栏内输入本人网报时所填写的身份证号（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8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位）。“身份验证”栏内输入身份证号码末六位，有字母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”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”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的请大写。本流程中涉及的年份以录取入学年份为准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一步：打开浏览器，输入湖北中医药大学财务处网址</a:t>
            </a:r>
            <a:r>
              <a:rPr b="0" lang="en-US" sz="3200" spc="-1" strike="noStrike">
                <a:solidFill>
                  <a:srgbClr val="3702f8"/>
                </a:solidFill>
                <a:latin typeface="Tahoma"/>
              </a:rPr>
              <a:t>(http://cwc.hbtcm.edu.cn/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" name="图片 3" descr="1-1.jpg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9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二步：点击“网上缴费平台”进入登录首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" name="图片 3" descr="2-2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三步：输入“学号”、“身份验证码”和“验证码”，点击“下一步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4" name="图片 3" descr="1登录页面1.jpg"/>
          <p:cNvPicPr/>
          <p:nvPr/>
        </p:nvPicPr>
        <p:blipFill>
          <a:blip r:embed="rId1"/>
          <a:stretch/>
        </p:blipFill>
        <p:spPr>
          <a:xfrm>
            <a:off x="826920" y="1484280"/>
            <a:ext cx="7239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四步：确认缴费信息后，点击“下一步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6" name="图片 3" descr="2确认缴费页面2.jpg"/>
          <p:cNvPicPr/>
          <p:nvPr/>
        </p:nvPicPr>
        <p:blipFill>
          <a:blip r:embed="rId1"/>
          <a:stretch/>
        </p:blipFill>
        <p:spPr>
          <a:xfrm>
            <a:off x="611280" y="1341360"/>
            <a:ext cx="79786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五步：选中“通过手机进行身份验证”单选按钮，输入手机号和验证码后，点击“下一步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8" name="图片 3" descr="3支付身份验证页面3.jpg"/>
          <p:cNvPicPr/>
          <p:nvPr/>
        </p:nvPicPr>
        <p:blipFill>
          <a:blip r:embed="rId1"/>
          <a:stretch/>
        </p:blipFill>
        <p:spPr>
          <a:xfrm>
            <a:off x="395280" y="1771560"/>
            <a:ext cx="84247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六步：迅速输入发送到手机上的六位数验证码后，单击“确定” 按钮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0" name="图片 3" descr="4填入手机验证码页面4.jpg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1856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七步：支付身份验证完成后，单击“下一步”（本页可自动跳转）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2" name="图片 3" descr="5完成身份验证页面，跳入立即缴费页面5.jpg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0:50:31Z</dcterms:created>
  <dc:creator>sj</dc:creator>
  <dc:description/>
  <cp:keywords/>
  <dc:language>en-US</dc:language>
  <cp:lastModifiedBy>Administrator</cp:lastModifiedBy>
  <dcterms:modified xsi:type="dcterms:W3CDTF">2016-09-29T09:41:30Z</dcterms:modified>
  <cp:revision>519</cp:revision>
  <dc:subject/>
  <dc:title>    针刺对大鼠不同生理状态下神经    元放电及血压双向调节效应 的机制研究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