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1FF-0C6C-4B8A-A6F2-52147862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776-E95A-4079-A17B-D8FCB96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CAD-E994-4073-8FD9-E2E13F16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2884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66400"/>
            <a:ext cx="250236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979-62EA-47D6-856B-825DCC89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A1D-D886-4751-83D0-55449C09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64B-07A2-4E5B-A326-B7064B1C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FF4-5A04-469D-A6D4-964D857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924-E6E5-483A-9BBC-6B08CBF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77724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C36B-D88F-4260-B354-5AAF2DA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B49-C05D-46BA-912A-9936C42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6640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827-7686-464E-A346-5DEA6E4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28840"/>
            <a:ext cx="37926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66400"/>
            <a:ext cx="7772400" cy="22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9C1-E16D-40D7-B569-AA35149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071720"/>
            <a:ext cx="9169560" cy="137520"/>
            <a:chOff x="0" y="1071720"/>
            <a:chExt cx="9169560" cy="137520"/>
          </a:xfrm>
        </p:grpSpPr>
        <p:sp>
          <p:nvSpPr>
            <p:cNvPr id="1" name="Freeform 26"/>
            <p:cNvSpPr/>
            <p:nvPr/>
          </p:nvSpPr>
          <p:spPr>
            <a:xfrm>
              <a:off x="6415200" y="1095120"/>
              <a:ext cx="27543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  <p:sp>
          <p:nvSpPr>
            <p:cNvPr id="2" name="Freeform 27"/>
            <p:cNvSpPr/>
            <p:nvPr/>
          </p:nvSpPr>
          <p:spPr>
            <a:xfrm>
              <a:off x="2741760" y="1080720"/>
              <a:ext cx="4214520" cy="9504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  <p:sp>
          <p:nvSpPr>
            <p:cNvPr id="3" name="Freeform 28"/>
            <p:cNvSpPr/>
            <p:nvPr/>
          </p:nvSpPr>
          <p:spPr>
            <a:xfrm>
              <a:off x="0" y="1071720"/>
              <a:ext cx="3240000" cy="979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3008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3FF-4082-41DF-89A5-D8FBE166EDC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250920" y="950040"/>
            <a:ext cx="86421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3008"/>
                </a:solidFill>
                <a:latin typeface="黑体"/>
                <a:ea typeface="黑体"/>
              </a:rPr>
              <a:t>2018</a:t>
            </a:r>
            <a:r>
              <a:rPr b="1" lang="zh-CN" sz="5400" spc="-1" strike="noStrike">
                <a:solidFill>
                  <a:srgbClr val="fa3008"/>
                </a:solidFill>
                <a:latin typeface="黑体"/>
                <a:ea typeface="黑体"/>
              </a:rPr>
              <a:t>年推免生复试</a:t>
            </a:r>
            <a:endParaRPr b="0" lang="en-US" sz="5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3008"/>
                </a:solidFill>
                <a:latin typeface="Times New Roman"/>
              </a:rPr>
              <a:t>自助支付复试费流程</a:t>
            </a:r>
            <a:endParaRPr b="0" lang="en-US" sz="60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八步：点击操作栏“点击去支付”超级链接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4" name="图片 3" descr="6点击去支付6.jpg"/>
          <p:cNvPicPr/>
          <p:nvPr/>
        </p:nvPicPr>
        <p:blipFill>
          <a:blip r:embed="rId2"/>
          <a:stretch/>
        </p:blipFill>
        <p:spPr>
          <a:xfrm>
            <a:off x="324000" y="1268280"/>
            <a:ext cx="8496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64360" cy="17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九步：点击中国银联“储蓄卡”，勾选“本人知晓并愿意支付相应的服务费用”后，单击“去网上银行付款”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6" name="图片 4" descr="7勾选本人知晓并愿意支付相应的服务费用，点击 “去网上银行付款”7.jpg"/>
          <p:cNvPicPr/>
          <p:nvPr/>
        </p:nvPicPr>
        <p:blipFill>
          <a:blip r:embed="rId2"/>
          <a:stretch/>
        </p:blipFill>
        <p:spPr>
          <a:xfrm>
            <a:off x="611280" y="1700280"/>
            <a:ext cx="792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十步：点击支付银行单选按钮后，单击“到网上银行支付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8" name="图片 3" descr="8选择本人银行卡发卡行，点击“到网上银行支付”8.jpg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第十一步：根据系统提示到所选的银行网页进行支付操作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十二步：银行支付成功后，跳转到本支付系统，系统也提示支付成功。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71" name="图片 3" descr="9支付成功页面9.jpg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50920" y="1092960"/>
            <a:ext cx="8642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a3008"/>
                </a:solidFill>
                <a:latin typeface="Times New Roman"/>
              </a:rPr>
              <a:t>请各位推免生按照网上通知要求在规定时间内完成体检、报到、资格审查及专业复试</a:t>
            </a:r>
            <a:endParaRPr b="0" lang="en-US" sz="32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3008"/>
                </a:solidFill>
                <a:latin typeface="Times New Roman"/>
              </a:rPr>
              <a:t>祝各位考生复试取得好成绩！</a:t>
            </a:r>
            <a:endParaRPr b="0" lang="en-US" sz="48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30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137440" cy="468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注意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系统登录时请在“学号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学籍号”栏内输入本人网报时所填写的身份证号（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18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位）。“身份验证”栏内输入身份证号码末六位，有字母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X”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的请大写。本流程中涉及的年份以录取入学年份为准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一步：打开浏览器，输入湖北中医药大学财务处网址</a:t>
            </a:r>
            <a:r>
              <a:rPr b="0" lang="en-US" sz="3200" spc="-1" strike="noStrike">
                <a:solidFill>
                  <a:srgbClr val="3702f8"/>
                </a:solidFill>
                <a:latin typeface="Tahoma"/>
              </a:rPr>
              <a:t>(http://cwc.hbtcm.edu.cn/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0" name="图片 3" descr="1-1.jpg"/>
          <p:cNvPicPr/>
          <p:nvPr/>
        </p:nvPicPr>
        <p:blipFill>
          <a:blip r:embed="rId2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9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二步：点击“网上缴费平台”进入登录首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" name="图片 3" descr="2-2.jpg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三步：输入“学号”、“身份验证码”和“验证码”，点击“下一步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4" name="图片 3" descr="1登录页面1.jpg"/>
          <p:cNvPicPr/>
          <p:nvPr/>
        </p:nvPicPr>
        <p:blipFill>
          <a:blip r:embed="rId2"/>
          <a:stretch/>
        </p:blipFill>
        <p:spPr>
          <a:xfrm>
            <a:off x="826920" y="1484280"/>
            <a:ext cx="7239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四步：确认缴费信息后，点击“下一步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6" name="图片 3" descr="2确认缴费页面2.jpg"/>
          <p:cNvPicPr/>
          <p:nvPr/>
        </p:nvPicPr>
        <p:blipFill>
          <a:blip r:embed="rId2"/>
          <a:stretch/>
        </p:blipFill>
        <p:spPr>
          <a:xfrm>
            <a:off x="611280" y="1341360"/>
            <a:ext cx="79786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02f8"/>
                </a:solidFill>
                <a:latin typeface="Tahoma"/>
              </a:rPr>
              <a:t>第五步：选中“通过手机进行身份验证”单选按钮，输入手机号和验证码后，点击“下一步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8" name="图片 3" descr="3支付身份验证页面3.jpg"/>
          <p:cNvPicPr/>
          <p:nvPr/>
        </p:nvPicPr>
        <p:blipFill>
          <a:blip r:embed="rId2"/>
          <a:stretch/>
        </p:blipFill>
        <p:spPr>
          <a:xfrm>
            <a:off x="395280" y="1771560"/>
            <a:ext cx="8424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六步：迅速输入发送到手机上的六位数验证码后，单击“确定” 按钮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0" name="图片 3" descr="4填入手机验证码页面4.jpg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02f8"/>
                </a:solidFill>
                <a:latin typeface="Tahoma"/>
              </a:rPr>
              <a:t>第七步：支付身份验证完成后，单击“下一步”（本页可自动跳转）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62" name="图片 3" descr="5完成身份验证页面，跳入立即缴费页面5.jpg"/>
          <p:cNvPicPr/>
          <p:nvPr/>
        </p:nvPicPr>
        <p:blipFill>
          <a:blip r:embed="rId2"/>
          <a:stretch/>
        </p:blipFill>
        <p:spPr>
          <a:xfrm>
            <a:off x="250920" y="1268280"/>
            <a:ext cx="8642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50:31Z</dcterms:created>
  <dc:creator>sj</dc:creator>
  <dc:description/>
  <cp:keywords/>
  <dc:language>en-US</dc:language>
  <cp:lastModifiedBy>User</cp:lastModifiedBy>
  <dcterms:modified xsi:type="dcterms:W3CDTF">2017-10-09T08:30:35Z</dcterms:modified>
  <cp:revision>521</cp:revision>
  <dc:subject/>
  <dc:title>    针刺对大鼠不同生理状态下神经    元放电及血压双向调节效应 的机制研究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